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6C8F-072A-4B74-9CE7-DD0F5C44D2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05A-1349-4707-B88C-2AF29780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B2F-F54F-4A3C-AFBC-56DFBEDC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38A-4B9C-4C69-A922-E5544901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895-A425-45D5-ABC2-167B4D9E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B17-85A9-4625-809C-A46C5FC2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203-58FF-4A09-A370-611EBD40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7C7-F507-4F16-A118-F819C219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3D2A-B429-4F63-8CDF-C6F6D614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B4AE-2A5A-480E-914C-B63E506D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9A5-F6F0-4428-A97E-74167BA6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AAB-D1F1-4A7D-A7D5-A5259C5F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B90-8651-4947-A1A3-EB3CA6FE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0397-6203-4621-ABF1-9D145C9C5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9072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lips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20a"/>
          <p:cNvPicPr/>
          <p:nvPr/>
        </p:nvPicPr>
        <p:blipFill>
          <a:blip r:embed="rId1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2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ижний колонтитул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838080" y="380880"/>
            <a:ext cx="78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e from a planet to the 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20c"/>
          <p:cNvPicPr/>
          <p:nvPr/>
        </p:nvPicPr>
        <p:blipFill>
          <a:blip r:embed="rId1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ижний колонтитул 2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5800" y="12193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447920" y="327672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3808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ижний колонтитул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895560" y="91440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676520" y="62485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8-03-22T10:40:00Z</dcterms:modified>
  <cp:revision>297</cp:revision>
  <dc:subject/>
  <dc:title>The Roots of Astronomy</dc:title>
</cp:coreProperties>
</file>